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A0B590-0EA7-4A24-9942-FEE9872B38C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69AAA4-E3AB-4AD8-B0F2-4B2ED13B578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4C5BBA-6A74-4117-9B8A-FD46F6227B2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677-2909-438F-A653-75DD9B64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F29-0DAD-40A4-956B-90606748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793-1965-4353-A656-38B12002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0DD-E3DB-4C31-BF96-8FC1580C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DE5-C636-477A-BB83-355D2EC8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32F4-D616-406D-BE78-E2C4679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7F1-834C-46C5-BC7D-D5F157C6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A448-E864-4C75-B95B-354BC8A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14BC-49AD-4D98-8AF3-E06EC3C4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E660-7530-4CF7-A50E-682E482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DCE4-BC9A-418F-B54C-488761E8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F70-BACA-4474-BE9B-F06B8C3A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F951-C1A9-4DC1-85A3-64077594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8697-34B1-41DB-86A8-40D10DA0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D2A6-29EC-47B4-8144-FAE6C659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C31A-BD61-49CB-92B6-0C020B64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CB61-48B0-41BD-B3D6-73B13E7B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8703-D478-470E-9A1F-BA922571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1C91-E603-4D04-B65F-BD46C3A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10E4-0F45-4518-9482-338B9FD9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DED0-305E-42DE-8003-C0E78DE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22D9-DBC4-4065-B619-D199583D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731-B786-4D43-A7C0-FAF27CA0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108AE-C651-46FC-B8BD-A8C1D0C3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759A-5EEE-4F19-BD7B-684324F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C223-4726-425C-8F9F-C927A904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B290-9D34-4212-A7A3-76FB734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AB4C-B344-41DB-A044-795A6453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35EF-9FF1-43E8-8EE9-79E6315F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9D99-A531-44B7-BCFA-C910B5FB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91C2-8F36-4925-82DC-625AE544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1D1F-139D-486E-B67D-CB6F2E84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0FAC-E8F9-407F-AD4C-6ED93A64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349-987E-4BCB-9A37-562FEEBC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6AEB-93F4-4239-9A89-4B6B6E84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66D4-D345-46A9-8513-2A5544CA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0055-1FE7-41EC-B47C-8B5B3990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C9C8-E8EB-4D8E-90AA-D5926700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2C88-E17A-456D-A053-E409C36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FC7B-91AA-48E2-9B39-017FE22B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A9B16-C598-49E6-B298-E7528B3B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9AF9-541F-4B8B-931C-F5C1CEC8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1406-BA98-4A05-930B-ED5F446D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373A6-226F-4107-A61F-2454DB3C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854-3DBC-40EF-B41C-ADB1C59F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D584-FD7D-42BE-AD48-C8DA82D1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BCCD-66AA-4C0F-A371-2A06C7E7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66BEF-8BFC-4329-8501-7D3EA66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85CE-8FB6-45A6-9367-43A56FB4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315A-FE06-4F2E-A8CA-EDA59DCE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C95E-8F50-467B-BC34-4AED5A2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67A5-4A54-4561-8B02-280E3DE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12C8-1A00-4782-837D-9FDA87F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0604-8465-4DEC-B3BF-453EC252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0DE7-C2C9-4A59-BB5D-B6111D3E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4B6-F845-42D7-96F6-6E663CA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B09F-7E2E-4A42-AC1D-8F9AA404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B131-86C7-4889-8DB7-041DDC11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6AD63-14A2-43D6-83D9-725C0B8E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7C4F-213D-48FB-9FCA-70965B4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4611-5B0F-4A9E-AD31-A070445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F379-819A-40DB-B0E0-290634CC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E79C-6BD4-4D19-B31B-981642D4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EA2E-3A37-4AF6-97E1-82CDE01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25FD2-CB03-4C99-A119-4A3E7B4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957C5-9574-4A2E-9D01-8A01D23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20B-C085-4B52-83B2-8DD90A0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C83B-E548-4C67-9FD6-1D75D7D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A9568-8E9F-45CD-87E8-B09B2B2D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2BFB4-CFC0-4C15-9856-261B58A0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CEBF-A3BB-4391-BFFD-8CFA9ECD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F66E-253B-43EC-A443-725FB468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EA5B5-1E76-43BA-B94E-F409989E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5AEF-973A-4E45-BB53-0170D3C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7F210-DA79-4938-855E-18C76C55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424D4-AE90-48A7-8E64-41FF996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5C1BF-0856-49A2-A8A7-2D7FA229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968-7194-430C-856A-A720C467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4C71-30B3-43E1-A323-6C16B8F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A7802-F287-4EB1-9A80-CA3C858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E0FE-E126-476A-B069-D733C9F0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6FA35-C0C1-43E8-96A7-D072592F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4A56-C8BC-40EB-A742-340C9365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3CD98-0432-443D-A21B-CD0228A8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79C31-60F8-4190-B8D2-5474027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B51C1-8E6F-41DE-9D0F-152878BC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6EB46-0024-462B-8F50-60CF00B8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85903-2D70-4FB3-AA17-205FEDF8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F88-FD16-45E3-B360-FBF92A2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C7474-E8A2-4B9A-ABD1-F9688AAE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2BEE-DA9D-4DDB-A8BC-965F1BD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CCF5D-63A0-42E5-8E04-A52AD9EA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AC7A4-DD22-46E2-A022-7E32CFF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86817-DF43-41B4-B6BD-5DF1CF44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EEE9-39A0-40BB-BDA5-B1550F63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50C1-FC66-4E77-86A7-F93AA652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E53E-A825-40C0-9196-A0A43E0366DB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76A3-1F16-40E4-826C-37344687530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C42B-E87F-40A6-9B97-9072D3626F81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E2A-58ED-413E-AD5A-CF999A9E4B3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7BA0-2D39-40BB-B8AE-D6C10B18B7A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741A-5FAC-44BA-AC65-00D4543A11F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C8C-B876-471D-9214-948B78FD1743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4CDE-E288-4026-AF64-C9936C633C5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cess Orchest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Advanced Business Process Manag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bpm-book-weske_080.png"/>
          <p:cNvPicPr/>
          <p:nvPr/>
        </p:nvPicPr>
        <p:blipFill>
          <a:blip r:embed="rId1"/>
          <a:srcRect l="0" t="0" r="0" b="8236"/>
          <a:stretch/>
        </p:blipFill>
        <p:spPr>
          <a:xfrm>
            <a:off x="1042920" y="1197000"/>
            <a:ext cx="7070760" cy="50338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10A1-DB75-4FB6-9544-644869E0B6E6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bpm-book-weske_081.png"/>
          <p:cNvPicPr/>
          <p:nvPr/>
        </p:nvPicPr>
        <p:blipFill>
          <a:blip r:embed="rId1"/>
          <a:srcRect l="0" t="0" r="0" b="6149"/>
          <a:stretch/>
        </p:blipFill>
        <p:spPr>
          <a:xfrm>
            <a:off x="1763640" y="1197000"/>
            <a:ext cx="5602320" cy="51483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33DE-4A27-4B7F-9B89-ECD69F8D8E03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bpm-book-weske_082.png"/>
          <p:cNvPicPr/>
          <p:nvPr/>
        </p:nvPicPr>
        <p:blipFill>
          <a:blip r:embed="rId1"/>
          <a:srcRect l="0" t="0" r="0" b="10024"/>
          <a:stretch/>
        </p:blipFill>
        <p:spPr>
          <a:xfrm>
            <a:off x="372960" y="1628640"/>
            <a:ext cx="8447040" cy="4027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FBB8-2563-4B32-BD24-64B3E2743F9F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CasellaDiTesto 1"/>
          <p:cNvSpPr/>
          <p:nvPr/>
        </p:nvSpPr>
        <p:spPr>
          <a:xfrm>
            <a:off x="655200" y="5805360"/>
            <a:ext cx="75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he activity following the merge is started for every activation of every incoming bran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bpm-book-weske_083.png"/>
          <p:cNvPicPr/>
          <p:nvPr/>
        </p:nvPicPr>
        <p:blipFill>
          <a:blip r:embed="rId1"/>
          <a:stretch/>
        </p:blipFill>
        <p:spPr>
          <a:xfrm>
            <a:off x="755640" y="1268280"/>
            <a:ext cx="7772400" cy="2934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DD52-3AA5-4338-B02E-AC3C94CDFF3C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" descr="bpm-book-weske_084.png"/>
          <p:cNvPicPr/>
          <p:nvPr/>
        </p:nvPicPr>
        <p:blipFill>
          <a:blip r:embed="rId2"/>
          <a:srcRect l="0" t="0" r="9649" b="14138"/>
          <a:stretch/>
        </p:blipFill>
        <p:spPr>
          <a:xfrm>
            <a:off x="755640" y="3429000"/>
            <a:ext cx="7272360" cy="2922480"/>
          </a:xfrm>
          <a:prstGeom prst="rect">
            <a:avLst/>
          </a:prstGeom>
          <a:ln w="0">
            <a:noFill/>
          </a:ln>
        </p:spPr>
      </p:pic>
      <p:sp>
        <p:nvSpPr>
          <p:cNvPr id="413" name="CasellaDiTesto 5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CasellaDiTesto 6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bpm-book-weske_085.png"/>
          <p:cNvPicPr/>
          <p:nvPr/>
        </p:nvPicPr>
        <p:blipFill>
          <a:blip r:embed="rId1"/>
          <a:stretch/>
        </p:blipFill>
        <p:spPr>
          <a:xfrm>
            <a:off x="685800" y="1701720"/>
            <a:ext cx="7772400" cy="3454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1AB-48F2-4A26-B56D-5843E3AFFD2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ttangolo 4"/>
          <p:cNvSpPr/>
          <p:nvPr/>
        </p:nvSpPr>
        <p:spPr>
          <a:xfrm>
            <a:off x="826920" y="4797360"/>
            <a:ext cx="70581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086.png"/>
          <p:cNvPicPr/>
          <p:nvPr/>
        </p:nvPicPr>
        <p:blipFill>
          <a:blip r:embed="rId1"/>
          <a:stretch/>
        </p:blipFill>
        <p:spPr>
          <a:xfrm>
            <a:off x="611280" y="1341360"/>
            <a:ext cx="8281800" cy="244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5BA-10B9-4903-82D7-0FF514B6B90A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CasellaDiTesto 4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CasellaDiTesto 5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1" descr="bpm-book-weske_087.png"/>
          <p:cNvPicPr/>
          <p:nvPr/>
        </p:nvPicPr>
        <p:blipFill>
          <a:blip r:embed="rId2"/>
          <a:srcRect l="0" t="0" r="9130" b="14052"/>
          <a:stretch/>
        </p:blipFill>
        <p:spPr>
          <a:xfrm>
            <a:off x="2124000" y="3500280"/>
            <a:ext cx="6108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bpm-book-weske_088.png"/>
          <p:cNvPicPr/>
          <p:nvPr/>
        </p:nvPicPr>
        <p:blipFill>
          <a:blip r:embed="rId1"/>
          <a:stretch/>
        </p:blipFill>
        <p:spPr>
          <a:xfrm>
            <a:off x="179280" y="1628640"/>
            <a:ext cx="8650440" cy="4186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N-out-of-M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F89-AF9F-44AA-AD38-19A81EA5D9F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Rettangolo 4"/>
          <p:cNvSpPr/>
          <p:nvPr/>
        </p:nvSpPr>
        <p:spPr>
          <a:xfrm>
            <a:off x="1042920" y="5300640"/>
            <a:ext cx="7058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bpm-book-weske_089.png"/>
          <p:cNvPicPr/>
          <p:nvPr/>
        </p:nvPicPr>
        <p:blipFill>
          <a:blip r:embed="rId1"/>
          <a:stretch/>
        </p:blipFill>
        <p:spPr>
          <a:xfrm>
            <a:off x="250920" y="2060640"/>
            <a:ext cx="8661240" cy="32655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pattern – graphical represent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A9D3-0C06-4F5E-9A8B-9F038D9818C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ttangolo 4"/>
          <p:cNvSpPr/>
          <p:nvPr/>
        </p:nvSpPr>
        <p:spPr>
          <a:xfrm>
            <a:off x="611280" y="4149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bpm-book-weske_090.png"/>
          <p:cNvPicPr/>
          <p:nvPr/>
        </p:nvPicPr>
        <p:blipFill>
          <a:blip r:embed="rId1"/>
          <a:stretch/>
        </p:blipFill>
        <p:spPr>
          <a:xfrm>
            <a:off x="685800" y="1770120"/>
            <a:ext cx="7772400" cy="3316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example – using multiple 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0BE-AE42-48FE-8B30-807DA4617088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ttangolo 4"/>
          <p:cNvSpPr/>
          <p:nvPr/>
        </p:nvSpPr>
        <p:spPr>
          <a:xfrm>
            <a:off x="755640" y="458136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bpm-book-weske_092.png"/>
          <p:cNvPicPr/>
          <p:nvPr/>
        </p:nvPicPr>
        <p:blipFill>
          <a:blip r:embed="rId1"/>
          <a:stretch/>
        </p:blipFill>
        <p:spPr>
          <a:xfrm>
            <a:off x="15840" y="1916280"/>
            <a:ext cx="9124920" cy="39607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for multiple instances with a priori design time knowled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298-48B3-4C81-A26E-0CB2AD70EBE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ttangolo 4"/>
          <p:cNvSpPr/>
          <p:nvPr/>
        </p:nvSpPr>
        <p:spPr>
          <a:xfrm>
            <a:off x="179280" y="5373720"/>
            <a:ext cx="8353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rol flow patter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provide a way for expressing process behaviou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are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independent of concrete process languages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, so that each pattern can be expressed in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different process languag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can also b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used to compare the expressiveness of process languag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Basic control flow patterns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lude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sequence, and split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and join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 well as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spli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jo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se control flow patterns are supported by virtually any process meta-mod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ar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defined at the process model level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 their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xecution semantics is applies at process instan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0C5-419B-4778-A93F-81395A47081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bpm-book-weske_093.png"/>
          <p:cNvPicPr/>
          <p:nvPr/>
        </p:nvPicPr>
        <p:blipFill>
          <a:blip r:embed="rId1"/>
          <a:srcRect l="0" t="0" r="0" b="12646"/>
          <a:stretch/>
        </p:blipFill>
        <p:spPr>
          <a:xfrm>
            <a:off x="250920" y="1484280"/>
            <a:ext cx="8656560" cy="39006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464653"/>
                </a:solidFill>
                <a:latin typeface="Bookman Old Style"/>
              </a:rPr>
              <a:t>Example for multiple instances without a priori run time knowledge patter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505B-6914-4BF7-977E-243EFD454F4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bpm-book-weske_094.png"/>
          <p:cNvPicPr/>
          <p:nvPr/>
        </p:nvPicPr>
        <p:blipFill>
          <a:blip r:embed="rId1"/>
          <a:srcRect l="0" t="0" r="0" b="15552"/>
          <a:stretch/>
        </p:blipFill>
        <p:spPr>
          <a:xfrm>
            <a:off x="0" y="1557360"/>
            <a:ext cx="9132840" cy="43862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64653"/>
                </a:solidFill>
                <a:latin typeface="Bookman Old Style"/>
              </a:rPr>
              <a:t>Multiple instance without a priori run time knowledge pattern, including management task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3BC2-B5D2-48E2-AAB9-41F1952EEDB3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1" descr="bpm-book-weske_096.png"/>
          <p:cNvPicPr/>
          <p:nvPr/>
        </p:nvPicPr>
        <p:blipFill>
          <a:blip r:embed="rId1"/>
          <a:srcRect l="0" t="0" r="0" b="10930"/>
          <a:stretch/>
        </p:blipFill>
        <p:spPr>
          <a:xfrm>
            <a:off x="684360" y="1389240"/>
            <a:ext cx="7772400" cy="4848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tial execution without a priori design time knowle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F8D-7C24-4FDC-A959-E8A50DD721C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ther types of patter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0675-2B78-4C6E-85BA-AF78B8D7256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re o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workflowpatterns.com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B1B-5C19-459F-A810-46A3223BFFD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Immagine 4" descr="Schermata 2013-10-05 a 12.13.25.png"/>
          <p:cNvPicPr/>
          <p:nvPr/>
        </p:nvPicPr>
        <p:blipFill>
          <a:blip r:embed="rId1"/>
          <a:stretch/>
        </p:blipFill>
        <p:spPr>
          <a:xfrm>
            <a:off x="1547640" y="1341360"/>
            <a:ext cx="59835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A62A-5C59-4D5C-A741-4B0FD74516A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bpm-book-weske_073.png"/>
          <p:cNvPicPr/>
          <p:nvPr/>
        </p:nvPicPr>
        <p:blipFill>
          <a:blip r:embed="rId1"/>
          <a:stretch/>
        </p:blipFill>
        <p:spPr>
          <a:xfrm>
            <a:off x="539640" y="2060640"/>
            <a:ext cx="8256600" cy="3676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tate transition diagram for activity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DE64-4B26-4CC9-B343-58072E74A7E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ttangolo 4"/>
          <p:cNvSpPr/>
          <p:nvPr/>
        </p:nvSpPr>
        <p:spPr>
          <a:xfrm>
            <a:off x="611280" y="5157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bpm-book-weske_074.png"/>
          <p:cNvPicPr/>
          <p:nvPr/>
        </p:nvPicPr>
        <p:blipFill>
          <a:blip r:embed="rId1"/>
          <a:stretch/>
        </p:blipFill>
        <p:spPr>
          <a:xfrm>
            <a:off x="900000" y="1628640"/>
            <a:ext cx="7772400" cy="4273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, with event diagram process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4E0C-BE84-48BC-9B2C-B602B70C9DA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ttangolo 4"/>
          <p:cNvSpPr/>
          <p:nvPr/>
        </p:nvSpPr>
        <p:spPr>
          <a:xfrm>
            <a:off x="900000" y="5373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bpm-book-weske_075.png"/>
          <p:cNvPicPr/>
          <p:nvPr/>
        </p:nvPicPr>
        <p:blipFill>
          <a:blip r:embed="rId1"/>
          <a:stretch/>
        </p:blipFill>
        <p:spPr>
          <a:xfrm>
            <a:off x="685800" y="1976400"/>
            <a:ext cx="7772400" cy="29034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 as part of loo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C86-8685-4864-92FF-BF688F302026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ttangolo 4"/>
          <p:cNvSpPr/>
          <p:nvPr/>
        </p:nvSpPr>
        <p:spPr>
          <a:xfrm>
            <a:off x="324000" y="4292640"/>
            <a:ext cx="7632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bpm-book-weske_076.png"/>
          <p:cNvPicPr/>
          <p:nvPr/>
        </p:nvPicPr>
        <p:blipFill>
          <a:blip r:embed="rId1"/>
          <a:stretch/>
        </p:blipFill>
        <p:spPr>
          <a:xfrm>
            <a:off x="250920" y="1844640"/>
            <a:ext cx="8434440" cy="33400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-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CB7-D101-4A9D-8C68-736BE91A9570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ttangolo 4"/>
          <p:cNvSpPr/>
          <p:nvPr/>
        </p:nvSpPr>
        <p:spPr>
          <a:xfrm>
            <a:off x="611280" y="450864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bpm-book-weske_077.png"/>
          <p:cNvPicPr/>
          <p:nvPr/>
        </p:nvPicPr>
        <p:blipFill>
          <a:blip r:embed="rId1"/>
          <a:stretch/>
        </p:blipFill>
        <p:spPr>
          <a:xfrm>
            <a:off x="388800" y="2060640"/>
            <a:ext cx="8755200" cy="3529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429B-F6F0-4775-B86A-B1E38ADD9D9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ttangolo 4"/>
          <p:cNvSpPr/>
          <p:nvPr/>
        </p:nvSpPr>
        <p:spPr>
          <a:xfrm>
            <a:off x="900000" y="5157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bpm-book-weske_078.png"/>
          <p:cNvPicPr/>
          <p:nvPr/>
        </p:nvPicPr>
        <p:blipFill>
          <a:blip r:embed="rId1"/>
          <a:stretch/>
        </p:blipFill>
        <p:spPr>
          <a:xfrm>
            <a:off x="108000" y="1341360"/>
            <a:ext cx="8891640" cy="4103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A113-C23F-40B0-8C38-ABA2EF7A19D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ttangolo 4"/>
          <p:cNvSpPr/>
          <p:nvPr/>
        </p:nvSpPr>
        <p:spPr>
          <a:xfrm>
            <a:off x="684360" y="4941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bpm-book-weske_079.png"/>
          <p:cNvPicPr/>
          <p:nvPr/>
        </p:nvPicPr>
        <p:blipFill>
          <a:blip r:embed="rId1"/>
          <a:stretch/>
        </p:blipFill>
        <p:spPr>
          <a:xfrm>
            <a:off x="103320" y="1341360"/>
            <a:ext cx="8861400" cy="4730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C24-3C7B-4F16-9E1B-5E4B415056A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ttangolo 4"/>
          <p:cNvSpPr/>
          <p:nvPr/>
        </p:nvSpPr>
        <p:spPr>
          <a:xfrm>
            <a:off x="755640" y="544500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3-10-16T07:00:00Z</cp:lastPrinted>
  <dcterms:modified xsi:type="dcterms:W3CDTF">2015-09-19T13:10:22Z</dcterms:modified>
  <cp:revision>214</cp:revision>
  <dc:subject>Lezioni Laboratorio Informatico per i database turistici</dc:subject>
  <dc:title>Presentazione corso</dc:title>
</cp:coreProperties>
</file>